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350D-8BF3-4055-96CA-DD1BD2BFB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B101-B797-4439-989A-403731C12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E38B-7785-401B-8328-B7CAD099F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6ABB-78D6-416A-91B8-4D8D01E14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CC10-83C4-4DA4-A8A5-638CB3632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5C74-8659-4C53-A79A-27CF5A7A4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052D-0E17-401A-B508-A762BC05A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B0B1-3D2E-49F5-8D85-6BDA4E559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AB8C-1A2E-4EAA-AEB8-EDF5D9113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67A6-7D58-493F-BDAE-8C89C90D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4D56-F4E0-4954-9A24-87A1F8CD3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08B4-0420-43C7-B894-B4A0F61B1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C9304-9A21-44BD-B848-E052869110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1904760"/>
            <a:ext cx="87631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DF Representation using Detailed Clinical Models of Patient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88560" y="1219320"/>
            <a:ext cx="9048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-year-old man with diabetes was referred to the Hypertension Clinic in Jich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cal School Hospital with symptoms of dizziness and orthostatic intoleran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2002, he started insulin therapy (Hemoglobin A1c 9 %), and in 2004, he was star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a once daily dose of valsartan 80 mg for hypertension. He sometimes complain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dizziness and fainting while standing. On 13 February 2005, he fell down whi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ding a bicycle. As the clinic BP was 84/60 mm Hg on 14 March, and the valsartan w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pped. He was referred to otolaryngology and neurology, but no significa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normalities were detect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al “Triple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 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1 sex m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1 age 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1 disease diab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1 referred-to "Hypertension Clinic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Hypertension Clinic" department-of "Jichi Medical School Hospital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1 symptom dizz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1 symptom "orthostatic intolerance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P1 therapy "Insulin Therapy"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...] started-in 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P1 lab-result HemoglobinA1c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...] value 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...] measurement-date 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P1 therapy Valsartan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...] dose 80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...] frequency "Once Daily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...] started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...] stopped "14 March 2005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P1 symptom dizziness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...] frequency Somet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P1 symptom fainting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...] position "while standing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P1 history "fall"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...] activity "riding a bicycle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P1 vital-sign BP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...] systolic 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...] diastolic 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...] measurement-date "14 March 2005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1 referred-to otolaryng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1 referred-to neur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([P1 clinical-finding abnormality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...] emphasis significa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895840" y="2743200"/>
            <a:ext cx="17611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zzinessAssertion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874240" y="696960"/>
            <a:ext cx="17719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f:type dcm:Pati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57600" y="12193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953800" y="176364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cm:sub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72560" y="2743200"/>
            <a:ext cx="184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cm:DizzinessAss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8954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0040" y="2590920"/>
            <a:ext cx="77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f: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73960" y="4114800"/>
            <a:ext cx="14716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zzinessValue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57600" y="3048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59800" y="344016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cm: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368800" y="5410080"/>
            <a:ext cx="9122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l7:CW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5960" y="5410080"/>
            <a:ext cx="14698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zziness_EC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666880" y="4419720"/>
            <a:ext cx="99072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657600" y="4419720"/>
            <a:ext cx="160020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21000" y="481176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cm: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26480" y="4811760"/>
            <a:ext cx="95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cm: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457680" y="4049640"/>
            <a:ext cx="17611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zzinessAssert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086600" y="3048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612480" y="3363840"/>
            <a:ext cx="8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cm: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36160" y="5421240"/>
            <a:ext cx="19058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rtion_KEY_EC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8880" y="4343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1080" y="4659480"/>
            <a:ext cx="95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cm: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604160" y="2743200"/>
            <a:ext cx="10234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bResult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78960" y="696960"/>
            <a:ext cx="17719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f:type dcm:Pati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62320" y="12193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58520" y="176364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cm:sub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955400" y="2743200"/>
            <a:ext cx="14302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cm:LabObsQ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28954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970360" y="2590920"/>
            <a:ext cx="77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f: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62800" y="4114800"/>
            <a:ext cx="5572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%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3048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964160" y="344016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cm: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72440" y="5410080"/>
            <a:ext cx="7552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l7:P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80680" y="5410080"/>
            <a:ext cx="14698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zziness_EC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371600" y="4419720"/>
            <a:ext cx="99072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362320" y="4419720"/>
            <a:ext cx="160020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25720" y="481176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cm: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30840" y="4811760"/>
            <a:ext cx="95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cm: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796280" y="4049640"/>
            <a:ext cx="4007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moglobinA1c/Hemoglobin.total:MFr:Pt:Bld:Q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91320" y="3048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17200" y="3363840"/>
            <a:ext cx="8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cm: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240160" y="5421240"/>
            <a:ext cx="28339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bObsQn_KEY_DOMAIN_EC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4343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545440" y="4659480"/>
            <a:ext cx="95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cm: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068120" y="2274840"/>
            <a:ext cx="16668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bpMeasurement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78960" y="228600"/>
            <a:ext cx="17719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f:type dcm:Pati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362320" y="75096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658520" y="129528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cm:sub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1440" y="2274840"/>
            <a:ext cx="28494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cm:DiastolicBloodPressureMe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666880" y="24271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970360" y="2122560"/>
            <a:ext cx="77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f: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62440" y="3646440"/>
            <a:ext cx="497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0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362320" y="257976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64160" y="297180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cm: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72440" y="4941720"/>
            <a:ext cx="7552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l7:P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80680" y="4941720"/>
            <a:ext cx="14698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zziness_EC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371600" y="3951360"/>
            <a:ext cx="99072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362320" y="3951360"/>
            <a:ext cx="160020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25720" y="434340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cm: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30840" y="4343400"/>
            <a:ext cx="95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cm: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797720" y="3581280"/>
            <a:ext cx="342396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astolicBloodPressureMeasurement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91320" y="257976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17200" y="2895480"/>
            <a:ext cx="8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cm: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38000" y="4952880"/>
            <a:ext cx="300636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astolicBloodPressure_KEY_EC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943600" y="387504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545440" y="4191120"/>
            <a:ext cx="95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cm: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24360" y="6019920"/>
            <a:ext cx="567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t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5257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50120" y="5497560"/>
            <a:ext cx="85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cm:un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09520" y="5562720"/>
            <a:ext cx="3429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ssureUnitOfMeasure_DOMAIN_EC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959000" y="6400800"/>
            <a:ext cx="12276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mHg_EC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1828800" y="5715000"/>
            <a:ext cx="19810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828800" y="6172200"/>
            <a:ext cx="31240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16800" y="5726160"/>
            <a:ext cx="115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cm:dom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31200" y="6183360"/>
            <a:ext cx="99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cm: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3T22:35:48Z</dcterms:created>
  <dc:creator>Partners Information Systems</dc:creator>
  <dc:description/>
  <dc:language>en-US</dc:language>
  <cp:lastModifiedBy>Partners Information Systems</cp:lastModifiedBy>
  <dcterms:modified xsi:type="dcterms:W3CDTF">2008-02-12T15:28:55Z</dcterms:modified>
  <cp:revision>11</cp:revision>
  <dc:subject/>
  <dc:title>RDF Representation using POMR of Patient 1</dc:title>
</cp:coreProperties>
</file>